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gif" ContentType="image/gif"/>
  <Override PartName="/ppt/media/image3.jpeg" ContentType="image/jpeg"/>
  <Override PartName="/ppt/media/image24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3.png" ContentType="image/png"/>
  <Override PartName="/ppt/media/image8.png" ContentType="image/png"/>
  <Override PartName="/ppt/media/image5.gif" ContentType="image/gif"/>
  <Override PartName="/ppt/media/image14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6.jpeg" ContentType="image/jpeg"/>
  <Override PartName="/ppt/media/image10.png" ContentType="image/pn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media/image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62586-9986-48ED-B5CE-80AD13374F3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D31AD-ECCB-4BC7-B090-DC1B190F5E9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айд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4C0D4-F02F-43EF-BD2A-2FA1C9C61B5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айд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AB004-FC6A-4441-99FF-685E82F5000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айд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7D7CE-4510-4CF8-AF0F-CD4A88DE2F9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айд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39AF0-D5E6-4900-8C13-C3C0A049667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айд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3D2AF-9140-4640-A3E9-06303FC3255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айд 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32685-77A7-45C1-A81D-E29DB6141D1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айд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19B2F-2F79-459D-B5A1-53C9954D918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айд 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91525-C586-42DD-81C6-90272324FDF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айд 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BC70A-A100-483D-86B9-56993C97A5A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айд 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11FB2-7BAD-42E5-A0EB-58A766C9A64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айд 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5BCF9-D539-4DEB-86AF-3E088A1B18B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айд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64689-FCE8-4088-AE98-DE7B839AFF3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айд 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C71C0-B179-4C7B-BF45-A5535CABA0A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айд 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FEF28-F60E-4888-BA1E-644BE708BC7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айд 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D8D9E-F152-4C61-9C87-062E0A91852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айд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84F18-C874-4B1C-A140-38A8B2BDE71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айд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75CFB-417A-44EC-B48E-68C21AC7738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айд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0A7FC-1C31-4ED0-9172-7DEA019E950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айд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3A95F-B072-4BAF-96D7-F00234266A0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айд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3E514-E529-4D0E-A973-9C34A3246F4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айд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C9608-0195-42D1-836C-47CB43FA0CD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айд 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9FF55-C66C-4EFD-B179-071BABF9B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37F51-DF3F-4F23-BD64-406E60B21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39065-62E3-40F8-AD2F-1A38F548C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D2003-581E-405A-806A-F1C722B9C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0D074-6492-476D-AC67-412451DB9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DE7DF-2D0F-4B20-AA49-F78197447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3ECE2-1357-4D4B-B688-C4B827D60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BAA01-8D31-4A3A-A0C0-5C7D1921A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D2B1F-0CCE-40C1-871C-16F70EA1F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C2F48-FD92-4E4C-854F-CC057F35D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88DFF-F261-4BFD-A762-69F963909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C97FC-3DEB-4E29-B89F-2C0EC1206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FE9E5-7F4C-4F28-9961-F7680211A84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6840" y="1218960"/>
            <a:ext cx="8458200" cy="102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</a:rPr>
              <a:t>каждой цветности соответствует своя длина и частота волны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228600" y="2133720"/>
          <a:ext cx="8686800" cy="4014720"/>
        </p:xfrm>
        <a:graphic>
          <a:graphicData uri="http://schemas.openxmlformats.org/drawingml/2006/table">
            <a:tbl>
              <a:tblPr/>
              <a:tblGrid>
                <a:gridCol w="1241280"/>
                <a:gridCol w="1239840"/>
                <a:gridCol w="1243080"/>
                <a:gridCol w="1238400"/>
                <a:gridCol w="1243080"/>
                <a:gridCol w="1239840"/>
                <a:gridCol w="1241280"/>
              </a:tblGrid>
              <a:tr h="182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00ff"/>
                    </a:solidFill>
                  </a:tcPr>
                </a:tc>
              </a:tr>
              <a:tr h="2185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60 –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0 –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0 –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0 –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 –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0 –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0 –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62" name="Text Box 53"/>
          <p:cNvSpPr/>
          <p:nvPr/>
        </p:nvSpPr>
        <p:spPr>
          <a:xfrm>
            <a:off x="228600" y="762120"/>
            <a:ext cx="86104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00"/>
                </a:solidFill>
                <a:latin typeface="Times New Roman"/>
              </a:rPr>
              <a:t>Монохроматический свет</a:t>
            </a:r>
            <a:r>
              <a:rPr b="1" lang="ru-RU" sz="2700" spc="-1" strike="noStrike">
                <a:solidFill>
                  <a:srgbClr val="000000"/>
                </a:solidFill>
                <a:latin typeface="Times New Roman"/>
              </a:rPr>
              <a:t> – одноцветный све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1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4" descr="{CC7D31B8-2436-4C20-B59F-F532F0280E80}"/>
          <p:cNvPicPr/>
          <p:nvPr/>
        </p:nvPicPr>
        <p:blipFill>
          <a:blip r:embed="rId1"/>
          <a:stretch/>
        </p:blipFill>
        <p:spPr>
          <a:xfrm>
            <a:off x="914400" y="685800"/>
            <a:ext cx="7391520" cy="55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93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d63e20"/>
                </a:solidFill>
                <a:latin typeface="Arial Black"/>
              </a:rPr>
              <a:t>ДИСПЕРС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7432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 Black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 Black"/>
              </a:rPr>
              <a:t>Зависимость показателя преломления света от частоты колебаний (или длины волны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5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 Black"/>
              </a:rPr>
              <a:t>Вывод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2286000"/>
            <a:ext cx="8458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Дисперсия – явление разложения белого света в спект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Белый свет – сложный, состоит из монохроматических цвето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Показатель преломления среды зависит от цвета света (фиол., красн.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Показатель преломления света в среде зависит от его частот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4648320" cy="167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d63e20"/>
                </a:solidFill>
                <a:latin typeface="Arial Black"/>
              </a:rPr>
              <a:t>Томас Юнг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181120" y="609480"/>
            <a:ext cx="34290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Arial Black"/>
              </a:rPr>
              <a:t>Красн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Arial Black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669900"/>
                </a:solidFill>
                <a:latin typeface="Arial Black"/>
              </a:rPr>
              <a:t>Зелен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9900"/>
                </a:solidFill>
                <a:latin typeface="Arial Black"/>
              </a:rPr>
              <a:t>+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3399ff"/>
                </a:solidFill>
                <a:latin typeface="Arial Black"/>
              </a:rPr>
              <a:t>Голубо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99ff"/>
                </a:solidFill>
                <a:latin typeface="Arial Black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 Black"/>
              </a:rPr>
              <a:t>Белый св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cc"/>
                </a:solidFill>
                <a:latin typeface="Arial Black"/>
              </a:rPr>
              <a:t>1807 г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young"/>
          <p:cNvPicPr/>
          <p:nvPr/>
        </p:nvPicPr>
        <p:blipFill>
          <a:blip r:embed="rId1"/>
          <a:stretch/>
        </p:blipFill>
        <p:spPr>
          <a:xfrm>
            <a:off x="533520" y="1828800"/>
            <a:ext cx="373536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4" descr="RGB"/>
          <p:cNvPicPr/>
          <p:nvPr/>
        </p:nvPicPr>
        <p:blipFill>
          <a:blip r:embed="rId1"/>
          <a:stretch/>
        </p:blipFill>
        <p:spPr>
          <a:xfrm>
            <a:off x="990720" y="914400"/>
            <a:ext cx="7467480" cy="54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4" descr="osn_tsveta"/>
          <p:cNvPicPr/>
          <p:nvPr/>
        </p:nvPicPr>
        <p:blipFill>
          <a:blip r:embed="rId1"/>
          <a:stretch/>
        </p:blipFill>
        <p:spPr>
          <a:xfrm>
            <a:off x="2133720" y="1295280"/>
            <a:ext cx="4952880" cy="48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352680" y="3200040"/>
            <a:ext cx="5562720" cy="342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Условия возникновения радуги:</a:t>
            </a:r>
            <a:br>
              <a:rPr sz="2000"/>
            </a:br>
            <a:r>
              <a:rPr b="0" lang="ru-RU" sz="2100" spc="-1" strike="noStrike">
                <a:solidFill>
                  <a:srgbClr val="000099"/>
                </a:solidFill>
                <a:latin typeface="Arial"/>
              </a:rPr>
              <a:t>1.Радуга появляется, только когда</a:t>
            </a:r>
            <a:br>
              <a:rPr sz="2100"/>
            </a:br>
            <a:r>
              <a:rPr b="0" lang="ru-RU" sz="2100" spc="-1" strike="noStrike">
                <a:solidFill>
                  <a:srgbClr val="000099"/>
                </a:solidFill>
                <a:latin typeface="Arial"/>
              </a:rPr>
              <a:t>   выглянуло из-за туч солнце и</a:t>
            </a:r>
            <a:br>
              <a:rPr sz="2100"/>
            </a:br>
            <a:r>
              <a:rPr b="0" lang="ru-RU" sz="2100" spc="-1" strike="noStrike">
                <a:solidFill>
                  <a:srgbClr val="000099"/>
                </a:solidFill>
                <a:latin typeface="Arial"/>
              </a:rPr>
              <a:t>   только в стороне, противоположной </a:t>
            </a:r>
            <a:br>
              <a:rPr sz="2100"/>
            </a:br>
            <a:r>
              <a:rPr b="0" lang="ru-RU" sz="2100" spc="-1" strike="noStrike">
                <a:solidFill>
                  <a:srgbClr val="000099"/>
                </a:solidFill>
                <a:latin typeface="Arial"/>
              </a:rPr>
              <a:t>   солнцу.</a:t>
            </a:r>
            <a:br>
              <a:rPr sz="2100"/>
            </a:br>
            <a:r>
              <a:rPr b="0" lang="ru-RU" sz="2100" spc="-1" strike="noStrike">
                <a:solidFill>
                  <a:srgbClr val="000099"/>
                </a:solidFill>
                <a:latin typeface="Arial"/>
              </a:rPr>
              <a:t>2.Радуга возникает, когда солнце</a:t>
            </a:r>
            <a:br>
              <a:rPr sz="2100"/>
            </a:br>
            <a:r>
              <a:rPr b="0" lang="ru-RU" sz="2100" spc="-1" strike="noStrike">
                <a:solidFill>
                  <a:srgbClr val="000099"/>
                </a:solidFill>
                <a:latin typeface="Arial"/>
              </a:rPr>
              <a:t>   освещает завесу дождя.</a:t>
            </a:r>
            <a:br>
              <a:rPr sz="2100"/>
            </a:br>
            <a:r>
              <a:rPr b="0" lang="ru-RU" sz="2100" spc="-1" strike="noStrike">
                <a:solidFill>
                  <a:srgbClr val="000099"/>
                </a:solidFill>
                <a:latin typeface="Arial"/>
              </a:rPr>
              <a:t>3.Радуга появляется при условии, что </a:t>
            </a:r>
            <a:br>
              <a:rPr sz="2100"/>
            </a:br>
            <a:r>
              <a:rPr b="0" lang="ru-RU" sz="2100" spc="-1" strike="noStrike">
                <a:solidFill>
                  <a:srgbClr val="000099"/>
                </a:solidFill>
                <a:latin typeface="Arial"/>
              </a:rPr>
              <a:t>   угловая высота солнца над  горизонтом</a:t>
            </a:r>
            <a:br>
              <a:rPr sz="2100"/>
            </a:br>
            <a:r>
              <a:rPr b="0" lang="ru-RU" sz="2100" spc="-1" strike="noStrike">
                <a:solidFill>
                  <a:srgbClr val="000099"/>
                </a:solidFill>
                <a:latin typeface="Arial"/>
              </a:rPr>
              <a:t>   не превышает 42 градуса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4560" y="838080"/>
            <a:ext cx="52578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Все лучи лесов зеленых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Все болотные кувшинки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На земле когда увянут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Расцветают снова в небе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6" descr="CA0TD5PM"/>
          <p:cNvPicPr/>
          <p:nvPr/>
        </p:nvPicPr>
        <p:blipFill>
          <a:blip r:embed="rId1"/>
          <a:stretch/>
        </p:blipFill>
        <p:spPr>
          <a:xfrm>
            <a:off x="5867280" y="914400"/>
            <a:ext cx="2133720" cy="21337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7" descr="144"/>
          <p:cNvPicPr/>
          <p:nvPr/>
        </p:nvPicPr>
        <p:blipFill>
          <a:blip r:embed="rId2"/>
          <a:stretch/>
        </p:blipFill>
        <p:spPr>
          <a:xfrm>
            <a:off x="533520" y="3200400"/>
            <a:ext cx="24192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ntr" presetID="53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1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500"/>
                            </p:stCondLst>
                            <p:childTnLst>
                              <p:par>
                                <p:cTn id="2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240" y="762120"/>
            <a:ext cx="6172200" cy="163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В водяной капле происходят следующие оптические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явления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Object 9"/>
          <p:cNvGraphicFramePr/>
          <p:nvPr/>
        </p:nvGraphicFramePr>
        <p:xfrm>
          <a:off x="228600" y="2514600"/>
          <a:ext cx="5257800" cy="388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514600"/>
                    <a:ext cx="5257800" cy="388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" name="Rectangle 12"/>
          <p:cNvSpPr/>
          <p:nvPr/>
        </p:nvSpPr>
        <p:spPr>
          <a:xfrm>
            <a:off x="5867280" y="2209680"/>
            <a:ext cx="30481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Преломление свет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Дисперсия света, т.е. разложение белого света в спект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Отражение све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5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0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63e20"/>
                </a:solidFill>
                <a:latin typeface="Arial Black"/>
              </a:rPr>
              <a:t>ДИСПЕРС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6" descr="CAQJWLYN"/>
          <p:cNvPicPr/>
          <p:nvPr/>
        </p:nvPicPr>
        <p:blipFill>
          <a:blip r:embed="rId1"/>
          <a:stretch/>
        </p:blipFill>
        <p:spPr>
          <a:xfrm>
            <a:off x="685800" y="649440"/>
            <a:ext cx="3581280" cy="26557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7" descr="CAS6IV4Q"/>
          <p:cNvPicPr/>
          <p:nvPr/>
        </p:nvPicPr>
        <p:blipFill>
          <a:blip r:embed="rId2"/>
          <a:stretch/>
        </p:blipFill>
        <p:spPr>
          <a:xfrm>
            <a:off x="685800" y="3773520"/>
            <a:ext cx="3505320" cy="26002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CA88XL9F"/>
          <p:cNvPicPr/>
          <p:nvPr/>
        </p:nvPicPr>
        <p:blipFill>
          <a:blip r:embed="rId3"/>
          <a:stretch/>
        </p:blipFill>
        <p:spPr>
          <a:xfrm>
            <a:off x="4952880" y="685800"/>
            <a:ext cx="3490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00600" y="1752120"/>
            <a:ext cx="3733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cc"/>
                </a:solidFill>
                <a:latin typeface="Arial Black"/>
              </a:rPr>
              <a:t>Гал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CALSSVDP"/>
          <p:cNvPicPr/>
          <p:nvPr/>
        </p:nvPicPr>
        <p:blipFill>
          <a:blip r:embed="rId1"/>
          <a:stretch/>
        </p:blipFill>
        <p:spPr>
          <a:xfrm>
            <a:off x="609480" y="838080"/>
            <a:ext cx="3429000" cy="24177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5" descr="галдо2"/>
          <p:cNvPicPr/>
          <p:nvPr/>
        </p:nvPicPr>
        <p:blipFill>
          <a:blip r:embed="rId2"/>
          <a:stretch/>
        </p:blipFill>
        <p:spPr>
          <a:xfrm>
            <a:off x="609480" y="3733920"/>
            <a:ext cx="3505320" cy="25192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6" descr="гало6"/>
          <p:cNvPicPr/>
          <p:nvPr/>
        </p:nvPicPr>
        <p:blipFill>
          <a:blip r:embed="rId3"/>
          <a:stretch/>
        </p:blipFill>
        <p:spPr>
          <a:xfrm>
            <a:off x="4800600" y="3581280"/>
            <a:ext cx="3479760" cy="26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 Black"/>
              </a:rPr>
              <a:t>Спектральный кру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5" descr="bmp1b10_05_01_c"/>
          <p:cNvPicPr/>
          <p:nvPr/>
        </p:nvPicPr>
        <p:blipFill>
          <a:blip r:embed="rId1"/>
          <a:stretch/>
        </p:blipFill>
        <p:spPr>
          <a:xfrm>
            <a:off x="914400" y="2057400"/>
            <a:ext cx="2867040" cy="39625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6" descr="bmp1b10_05_02_c"/>
          <p:cNvPicPr/>
          <p:nvPr/>
        </p:nvPicPr>
        <p:blipFill>
          <a:blip r:embed="rId2"/>
          <a:stretch/>
        </p:blipFill>
        <p:spPr>
          <a:xfrm>
            <a:off x="5257800" y="2057400"/>
            <a:ext cx="2874960" cy="39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0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93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d63e20"/>
                </a:solidFill>
                <a:latin typeface="Arial Black"/>
              </a:rPr>
              <a:t>ДИСПЕРС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 Black"/>
              </a:rPr>
              <a:t>  </a:t>
            </a:r>
            <a:r>
              <a:rPr b="1" lang="en-US" sz="3600" spc="-1" strike="noStrike">
                <a:solidFill>
                  <a:srgbClr val="ff99ff"/>
                </a:solidFill>
                <a:latin typeface="Arial Black"/>
              </a:rPr>
              <a:t>dispersio</a:t>
            </a:r>
            <a:r>
              <a:rPr b="1" lang="ru-RU" sz="3600" spc="-1" strike="noStrike">
                <a:solidFill>
                  <a:srgbClr val="ff99ff"/>
                </a:solidFill>
                <a:latin typeface="Arial Black"/>
              </a:rPr>
              <a:t> (лат.) – рассеяние, развеива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 Black"/>
              </a:rPr>
              <a:t>Зависимость показателя преломления света от частоты колебаний (или длины волны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2120" y="10666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Опыт И. Ньюто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С </a:t>
            </a: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П </a:t>
            </a:r>
            <a:r>
              <a:rPr b="1" lang="ru-RU" sz="4000" spc="-1" strike="noStrike">
                <a:solidFill>
                  <a:srgbClr val="33cc33"/>
                </a:solidFill>
                <a:latin typeface="Arial"/>
              </a:rPr>
              <a:t>Е </a:t>
            </a:r>
            <a:r>
              <a:rPr b="1" lang="ru-RU" sz="4000" spc="-1" strike="noStrike">
                <a:solidFill>
                  <a:srgbClr val="3399ff"/>
                </a:solidFill>
                <a:latin typeface="Arial"/>
              </a:rPr>
              <a:t>К </a:t>
            </a:r>
            <a:r>
              <a:rPr b="1" lang="ru-RU" sz="4000" spc="-1" strike="noStrike">
                <a:solidFill>
                  <a:srgbClr val="3333cc"/>
                </a:solidFill>
                <a:latin typeface="Arial"/>
              </a:rPr>
              <a:t>Т </a:t>
            </a:r>
            <a:r>
              <a:rPr b="1" lang="ru-RU" sz="4000" spc="-1" strike="noStrike">
                <a:solidFill>
                  <a:srgbClr val="9900cc"/>
                </a:solidFill>
                <a:latin typeface="Arial"/>
              </a:rPr>
              <a:t>Р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pectrum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(лат.) -  вúдение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02040101"/>
          <p:cNvPicPr/>
          <p:nvPr/>
        </p:nvPicPr>
        <p:blipFill>
          <a:blip r:embed="rId1"/>
          <a:stretch/>
        </p:blipFill>
        <p:spPr>
          <a:xfrm>
            <a:off x="1523880" y="2293920"/>
            <a:ext cx="6096240" cy="45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280" y="5181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Опыт И. Ньюто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cc"/>
                </a:solidFill>
                <a:latin typeface="Times New Roman"/>
              </a:rPr>
              <a:t>       </a:t>
            </a:r>
            <a:r>
              <a:rPr b="1" lang="ru-RU" sz="2200" spc="-1" strike="noStrike">
                <a:solidFill>
                  <a:srgbClr val="ffffff"/>
                </a:solidFill>
                <a:latin typeface="Times New Roman"/>
              </a:rPr>
              <a:t>Газета «Нью –Йорк  Таймс»: Роберт Криз (сотрудник философского факультета университета Нью-Йорка) и Стони Брук (историк Брукхевенской Национальной Лаборатории) – опрос среди американских физиков, чтобы  чтобы определить 10 красивейших экспериментов за всю историю этой наук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7" descr="Prism"/>
          <p:cNvPicPr/>
          <p:nvPr/>
        </p:nvPicPr>
        <p:blipFill>
          <a:blip r:embed="rId1"/>
          <a:stretch/>
        </p:blipFill>
        <p:spPr>
          <a:xfrm>
            <a:off x="2057400" y="2895480"/>
            <a:ext cx="495288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7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066320"/>
            <a:ext cx="3962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d63e20"/>
                </a:solidFill>
                <a:latin typeface="Arial Black"/>
              </a:rPr>
              <a:t>И. В. Гет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190760" y="2209680"/>
            <a:ext cx="46479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 Black"/>
              </a:rPr>
              <a:t>Свет Ньютона 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 Black"/>
              </a:rPr>
              <a:t> </a:t>
            </a:r>
            <a:r>
              <a:rPr b="0" lang="ru-RU" sz="3200" spc="-1" strike="noStrike">
                <a:solidFill>
                  <a:srgbClr val="0000ff"/>
                </a:solidFill>
                <a:latin typeface="Arial Black"/>
              </a:rPr>
              <a:t>это свет,  «измученный всякого рода орудиями пытки – щелями, призмами, линзами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gete"/>
          <p:cNvPicPr/>
          <p:nvPr/>
        </p:nvPicPr>
        <p:blipFill>
          <a:blip r:embed="rId1"/>
          <a:srcRect l="2536" t="0" r="6405" b="5668"/>
          <a:stretch/>
        </p:blipFill>
        <p:spPr>
          <a:xfrm>
            <a:off x="457200" y="2133720"/>
            <a:ext cx="312732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Zver</cp:lastModifiedBy>
  <dcterms:modified xsi:type="dcterms:W3CDTF">2010-06-04T17:05:17Z</dcterms:modified>
  <cp:revision>6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